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wmf" ContentType="image/x-wmf"/>
  <Override PartName="/ppt/media/image8.png" ContentType="image/png"/>
  <Override PartName="/ppt/media/image1.png" ContentType="image/png"/>
  <Override PartName="/ppt/media/image3.jpeg" ContentType="image/jpeg"/>
  <Override PartName="/ppt/media/Ch.16(B02_02).wav" ContentType="audio/x-wav"/>
  <Override PartName="/ppt/media/01.1.wav" ContentType="audio/x-wav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951-A83C-4A17-A752-CA28D094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878-0048-4005-89B5-AD2C0D12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8A8-8025-4D89-892B-6B046B06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D75-22D5-463D-A76C-532C1466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224-B904-41EF-9C7F-98D1B81D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45D-5169-4868-9228-51985B4D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1FA-0E57-4D89-A2B7-23B21B1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765-5582-494A-A065-C80E994D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2F0-BA5A-4406-8406-5CF1DA9E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531-9B0C-4A58-9C80-C399EDE0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94F-B993-4560-BF20-54CB7316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987-B3D9-4017-B51E-1B1CFB7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253F-5B5A-4646-ADE2-5C27BC75106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.16(B02_02)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01.1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01.1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audio" Target="../media/01.1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01.1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audio" Target="../media/01.1.wav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01.1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01.1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.16(B02_02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Thermoregulation</a:t>
            </a:r>
            <a:br>
              <a:rPr sz="4400"/>
            </a:b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(Regulation of Body Temperatu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990099"/>
                </a:solidFill>
                <a:latin typeface="Impact"/>
              </a:rPr>
              <a:t>poikilotherms</a:t>
            </a:r>
            <a:r>
              <a:rPr b="0" lang="zh-TW" sz="3000" spc="-1" strike="noStrike">
                <a:solidFill>
                  <a:srgbClr val="000000"/>
                </a:solidFill>
                <a:latin typeface="Impact"/>
              </a:rPr>
              <a:t> (</a:t>
            </a:r>
            <a:r>
              <a:rPr b="0" lang="zh-TW" sz="3000" spc="-1" strike="noStrike">
                <a:solidFill>
                  <a:srgbClr val="990099"/>
                </a:solidFill>
                <a:latin typeface="Impact"/>
              </a:rPr>
              <a:t>cold-blooded animals</a:t>
            </a:r>
            <a:r>
              <a:rPr b="0" lang="zh-TW" sz="3000" spc="-1" strike="noStrike">
                <a:solidFill>
                  <a:srgbClr val="000000"/>
                </a:solidFill>
                <a:latin typeface="Impact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ff66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6600"/>
                </a:solidFill>
                <a:latin typeface="Impact"/>
              </a:rPr>
              <a:t>body temperatures vary with that of the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99cc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99cc00"/>
                </a:solidFill>
                <a:latin typeface="Impact"/>
              </a:rPr>
              <a:t>e.g. reptiles, fish, amphibi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Snake%20(fromMA)" descr=""/>
          <p:cNvPicPr/>
          <p:nvPr/>
        </p:nvPicPr>
        <p:blipFill>
          <a:blip r:embed="rId2"/>
          <a:stretch/>
        </p:blipFill>
        <p:spPr>
          <a:xfrm>
            <a:off x="1066680" y="4800600"/>
            <a:ext cx="2895840" cy="17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amphibian-2" descr=""/>
          <p:cNvPicPr/>
          <p:nvPr/>
        </p:nvPicPr>
        <p:blipFill>
          <a:blip r:embed="rId3"/>
          <a:stretch/>
        </p:blipFill>
        <p:spPr>
          <a:xfrm>
            <a:off x="4676760" y="4800600"/>
            <a:ext cx="2790720" cy="17622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01.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880" y="2285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990033"/>
                </a:solidFill>
                <a:latin typeface="Impact"/>
              </a:rPr>
              <a:t>Homoiotherms</a:t>
            </a:r>
            <a:r>
              <a:rPr b="0" lang="zh-TW" sz="3000" spc="-1" strike="noStrike">
                <a:solidFill>
                  <a:srgbClr val="000000"/>
                </a:solidFill>
                <a:latin typeface="Impact"/>
              </a:rPr>
              <a:t> (</a:t>
            </a:r>
            <a:r>
              <a:rPr b="0" lang="zh-TW" sz="3000" spc="-1" strike="noStrike">
                <a:solidFill>
                  <a:srgbClr val="990033"/>
                </a:solidFill>
                <a:latin typeface="Impact"/>
              </a:rPr>
              <a:t>warm-blooded</a:t>
            </a:r>
            <a:r>
              <a:rPr b="0" lang="zh-TW" sz="3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zh-TW" sz="3000" spc="-1" strike="noStrike">
                <a:solidFill>
                  <a:srgbClr val="990033"/>
                </a:solidFill>
                <a:latin typeface="Impact"/>
              </a:rPr>
              <a:t>animals</a:t>
            </a:r>
            <a:r>
              <a:rPr b="0" lang="zh-TW" sz="3000" spc="-1" strike="noStrike">
                <a:solidFill>
                  <a:srgbClr val="000000"/>
                </a:solidFill>
                <a:latin typeface="Impact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ff"/>
                </a:solidFill>
                <a:latin typeface="Impact"/>
              </a:rPr>
              <a:t>keep body temperature constant even in winter by increasing metabolic 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cc"/>
                </a:solidFill>
                <a:latin typeface="Impact"/>
              </a:rPr>
              <a:t>e.g. birds, mamm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mammal-4" descr=""/>
          <p:cNvPicPr/>
          <p:nvPr/>
        </p:nvPicPr>
        <p:blipFill>
          <a:blip r:embed="rId2"/>
          <a:stretch/>
        </p:blipFill>
        <p:spPr>
          <a:xfrm>
            <a:off x="1085760" y="4419720"/>
            <a:ext cx="3200400" cy="22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Robin%20(fromMA)" descr=""/>
          <p:cNvPicPr/>
          <p:nvPr/>
        </p:nvPicPr>
        <p:blipFill>
          <a:blip r:embed="rId3"/>
          <a:stretch/>
        </p:blipFill>
        <p:spPr>
          <a:xfrm>
            <a:off x="5029200" y="4419720"/>
            <a:ext cx="257184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Thermoregulation</a:t>
            </a:r>
            <a:br>
              <a:rPr sz="4400"/>
            </a:b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(Regulation of Body Temperatu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01.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1447920"/>
            <a:ext cx="8610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Maintenance of Body 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95280" y="2743200"/>
            <a:ext cx="7086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Westwood LET"/>
              </a:rPr>
              <a:t>SKI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Westwood LET"/>
              <a:ea typeface="Westwood LET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16.10" descr=""/>
          <p:cNvPicPr/>
          <p:nvPr/>
        </p:nvPicPr>
        <p:blipFill>
          <a:blip r:embed="rId2"/>
          <a:stretch/>
        </p:blipFill>
        <p:spPr>
          <a:xfrm>
            <a:off x="1523880" y="1336680"/>
            <a:ext cx="5715000" cy="41655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grpSp>
        <p:nvGrpSpPr>
          <p:cNvPr id="153" name=""/>
          <p:cNvGrpSpPr/>
          <p:nvPr/>
        </p:nvGrpSpPr>
        <p:grpSpPr>
          <a:xfrm>
            <a:off x="0" y="2301840"/>
            <a:ext cx="1523880" cy="825480"/>
            <a:chOff x="0" y="2301840"/>
            <a:chExt cx="1523880" cy="825480"/>
          </a:xfrm>
        </p:grpSpPr>
        <p:sp>
          <p:nvSpPr>
            <p:cNvPr id="154" name=""/>
            <p:cNvSpPr/>
            <p:nvPr/>
          </p:nvSpPr>
          <p:spPr>
            <a:xfrm>
              <a:off x="1371600" y="2378160"/>
              <a:ext cx="76320" cy="3049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2301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Impact"/>
                </a:rPr>
                <a:t>Epiderm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0" y="2759040"/>
            <a:ext cx="1523880" cy="1219320"/>
            <a:chOff x="0" y="2759040"/>
            <a:chExt cx="1523880" cy="1219320"/>
          </a:xfrm>
        </p:grpSpPr>
        <p:sp>
          <p:nvSpPr>
            <p:cNvPr id="157" name=""/>
            <p:cNvSpPr/>
            <p:nvPr/>
          </p:nvSpPr>
          <p:spPr>
            <a:xfrm>
              <a:off x="1371600" y="2759040"/>
              <a:ext cx="76320" cy="12193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314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 </a:t>
              </a:r>
              <a:r>
                <a:rPr b="0" lang="zh-TW" sz="2400" spc="-1" strike="noStrike">
                  <a:solidFill>
                    <a:srgbClr val="0066ff"/>
                  </a:solidFill>
                  <a:latin typeface="Impact"/>
                </a:rPr>
                <a:t>Derm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010280" y="1387440"/>
            <a:ext cx="2057400" cy="1065960"/>
            <a:chOff x="7010280" y="1387440"/>
            <a:chExt cx="2057400" cy="1065960"/>
          </a:xfrm>
        </p:grpSpPr>
        <p:sp>
          <p:nvSpPr>
            <p:cNvPr id="160" name=""/>
            <p:cNvSpPr/>
            <p:nvPr/>
          </p:nvSpPr>
          <p:spPr>
            <a:xfrm flipV="1">
              <a:off x="7010280" y="1843920"/>
              <a:ext cx="76212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138744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Impact"/>
                </a:rPr>
                <a:t>Outermost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010280" y="2149560"/>
            <a:ext cx="2057400" cy="825480"/>
            <a:chOff x="7010280" y="2149560"/>
            <a:chExt cx="2057400" cy="825480"/>
          </a:xfrm>
        </p:grpSpPr>
        <p:sp>
          <p:nvSpPr>
            <p:cNvPr id="163" name=""/>
            <p:cNvSpPr/>
            <p:nvPr/>
          </p:nvSpPr>
          <p:spPr>
            <a:xfrm>
              <a:off x="7391520" y="214956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Impact"/>
                </a:rPr>
                <a:t>Middle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10280" y="2606760"/>
              <a:ext cx="838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086600" y="2759040"/>
            <a:ext cx="2133720" cy="978120"/>
            <a:chOff x="7086600" y="2759040"/>
            <a:chExt cx="2133720" cy="978120"/>
          </a:xfrm>
        </p:grpSpPr>
        <p:sp>
          <p:nvSpPr>
            <p:cNvPr id="166" name=""/>
            <p:cNvSpPr/>
            <p:nvPr/>
          </p:nvSpPr>
          <p:spPr>
            <a:xfrm>
              <a:off x="7086600" y="2759040"/>
              <a:ext cx="685800" cy="609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0120" y="29116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Impact"/>
                </a:rPr>
                <a:t>Innermost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172200" y="4206960"/>
            <a:ext cx="2971800" cy="825480"/>
            <a:chOff x="6172200" y="4206960"/>
            <a:chExt cx="2971800" cy="825480"/>
          </a:xfrm>
        </p:grpSpPr>
        <p:sp>
          <p:nvSpPr>
            <p:cNvPr id="169" name=""/>
            <p:cNvSpPr/>
            <p:nvPr/>
          </p:nvSpPr>
          <p:spPr>
            <a:xfrm>
              <a:off x="7391520" y="420696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Impact"/>
                </a:rPr>
                <a:t>Sweat g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72200" y="4435560"/>
              <a:ext cx="1295280" cy="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486400" y="4892760"/>
            <a:ext cx="2666880" cy="1145520"/>
            <a:chOff x="5486400" y="4892760"/>
            <a:chExt cx="2666880" cy="1145520"/>
          </a:xfrm>
        </p:grpSpPr>
        <p:sp>
          <p:nvSpPr>
            <p:cNvPr id="172" name=""/>
            <p:cNvSpPr/>
            <p:nvPr/>
          </p:nvSpPr>
          <p:spPr>
            <a:xfrm>
              <a:off x="5486400" y="557856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cc"/>
                  </a:solidFill>
                  <a:latin typeface="Impact"/>
                </a:rPr>
                <a:t>Blood capilla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05720" y="489276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-76320" y="4664160"/>
            <a:ext cx="2743200" cy="1221480"/>
            <a:chOff x="-76320" y="4664160"/>
            <a:chExt cx="2743200" cy="1221480"/>
          </a:xfrm>
        </p:grpSpPr>
        <p:sp>
          <p:nvSpPr>
            <p:cNvPr id="175" name=""/>
            <p:cNvSpPr/>
            <p:nvPr/>
          </p:nvSpPr>
          <p:spPr>
            <a:xfrm flipV="1">
              <a:off x="1066680" y="4664160"/>
              <a:ext cx="53316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-76320" y="54259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ff"/>
                  </a:solidFill>
                  <a:latin typeface="Impact"/>
                </a:rPr>
                <a:t>Subcutaneous f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00600" y="1371600"/>
            <a:ext cx="2209680" cy="2437560"/>
            <a:chOff x="4800600" y="1371600"/>
            <a:chExt cx="2209680" cy="2437560"/>
          </a:xfrm>
        </p:grpSpPr>
        <p:sp>
          <p:nvSpPr>
            <p:cNvPr id="178" name=""/>
            <p:cNvSpPr/>
            <p:nvPr/>
          </p:nvSpPr>
          <p:spPr>
            <a:xfrm flipV="1">
              <a:off x="4800600" y="1828080"/>
              <a:ext cx="129528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105520" y="1828080"/>
              <a:ext cx="990360" cy="1981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181480" y="1828080"/>
              <a:ext cx="91440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34120" y="13716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Impact"/>
                </a:rPr>
                <a:t>Recep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962520" y="1387440"/>
            <a:ext cx="1676160" cy="1432080"/>
            <a:chOff x="3962520" y="1387440"/>
            <a:chExt cx="1676160" cy="1432080"/>
          </a:xfrm>
        </p:grpSpPr>
        <p:sp>
          <p:nvSpPr>
            <p:cNvPr id="183" name=""/>
            <p:cNvSpPr/>
            <p:nvPr/>
          </p:nvSpPr>
          <p:spPr>
            <a:xfrm flipH="1">
              <a:off x="4571640" y="2133720"/>
              <a:ext cx="15228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2520" y="138744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Impact"/>
                </a:rPr>
                <a:t>Erector mus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429000" y="4968720"/>
            <a:ext cx="1752480" cy="1587240"/>
            <a:chOff x="3429000" y="4968720"/>
            <a:chExt cx="1752480" cy="1587240"/>
          </a:xfrm>
        </p:grpSpPr>
        <p:sp>
          <p:nvSpPr>
            <p:cNvPr id="186" name=""/>
            <p:cNvSpPr/>
            <p:nvPr/>
          </p:nvSpPr>
          <p:spPr>
            <a:xfrm>
              <a:off x="3429000" y="573048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cccc00"/>
                  </a:solidFill>
                  <a:latin typeface="Impact"/>
                </a:rPr>
                <a:t>Nerve fib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38480" y="5273280"/>
              <a:ext cx="3049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49687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362320" y="1371600"/>
            <a:ext cx="1676160" cy="1676520"/>
            <a:chOff x="2362320" y="1371600"/>
            <a:chExt cx="1676160" cy="1676520"/>
          </a:xfrm>
        </p:grpSpPr>
        <p:sp>
          <p:nvSpPr>
            <p:cNvPr id="190" name=""/>
            <p:cNvSpPr/>
            <p:nvPr/>
          </p:nvSpPr>
          <p:spPr>
            <a:xfrm>
              <a:off x="3505320" y="2133720"/>
              <a:ext cx="38088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2320" y="137160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Impact"/>
                </a:rPr>
                <a:t>Sebaceous g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219320" y="1387440"/>
            <a:ext cx="1981080" cy="1812960"/>
            <a:chOff x="1219320" y="1387440"/>
            <a:chExt cx="1981080" cy="1812960"/>
          </a:xfrm>
        </p:grpSpPr>
        <p:sp>
          <p:nvSpPr>
            <p:cNvPr id="193" name=""/>
            <p:cNvSpPr/>
            <p:nvPr/>
          </p:nvSpPr>
          <p:spPr>
            <a:xfrm>
              <a:off x="1905120" y="2210040"/>
              <a:ext cx="129528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19320" y="13874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Impact"/>
                </a:rPr>
                <a:t>Hair foll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09480" y="59436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Structure of Mammalian Sk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3" name="01.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510516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Epiderm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6096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Impact"/>
              </a:rPr>
              <a:t>dead outer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Impact"/>
              </a:rPr>
              <a:t>relatively imperm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Impact"/>
              </a:rPr>
              <a:t>easily peeled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Impact"/>
              </a:rPr>
              <a:t>protect the underlying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to prevent mechanical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9900ff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Impact"/>
              </a:rPr>
              <a:t>to prevent bacterial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Impact"/>
              </a:rPr>
              <a:t>to reduce wate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epidermis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882880" cy="3733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3" name="01.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Impact"/>
              </a:rPr>
              <a:t>middle l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33cc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cc"/>
                </a:solidFill>
                <a:latin typeface="Impact"/>
              </a:rPr>
              <a:t>made up of living ce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33cc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cc"/>
                </a:solidFill>
                <a:latin typeface="Impact"/>
              </a:rPr>
              <a:t>become dead as they approach the su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Impact"/>
              </a:rPr>
              <a:t>black inner l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Impact"/>
              </a:rPr>
              <a:t>with pigment (melanin)  to absorb ultra-violet ray for sunligh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Impact"/>
              </a:rPr>
              <a:t>have cell division to repair the lost outer lay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2133360" y="761760"/>
            <a:ext cx="510516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Epiderm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Derm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Impact"/>
              </a:rPr>
              <a:t>Blood capill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to nourish the cells of the 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branch into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Impact"/>
              </a:rPr>
              <a:t>superficial blood capill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Impact"/>
              </a:rPr>
              <a:t>Sweat 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surrounded by a network of capill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secrete sweat (consists of water, mineral salts, urea &amp; some waste materia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characteristic of mam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828800"/>
            <a:ext cx="86108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9900ff"/>
              </a:buClr>
              <a:buFont typeface="Wingdings" charset="2"/>
              <a:buChar char="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Impact"/>
              </a:rPr>
              <a:t>Hair follicles &amp; Hai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51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Impact"/>
              </a:rPr>
              <a:t>each hair has a nerve &amp; a capillary attached to i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51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Impact"/>
              </a:rPr>
              <a:t>nerve: receives stimul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51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Impact"/>
              </a:rPr>
              <a:t>capillary: supply food &amp; oxyg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51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Impact"/>
              </a:rPr>
              <a:t>hairs reduce heat loss &amp; assist in temperature reg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ff9933"/>
              </a:buClr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33"/>
                </a:solidFill>
                <a:latin typeface="Impact"/>
              </a:rPr>
              <a:t>Erector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Impact"/>
              </a:rPr>
              <a:t>controls the hair movement for temperature reg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Derm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2286000"/>
            <a:ext cx="81536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Wing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Impact"/>
              </a:rPr>
              <a:t>Sebaceous 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600" indent="-2584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Impact"/>
              </a:rPr>
              <a:t>secretes oily sub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760" indent="-23472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Impact"/>
              </a:rPr>
              <a:t>to make the skin waterpro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760" indent="-23472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Impact"/>
              </a:rPr>
              <a:t>to prevent bacterial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Font typeface="Wingdings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Impact"/>
              </a:rPr>
              <a:t>Recep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600" indent="-2584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Impact"/>
              </a:rPr>
              <a:t>detect pain, pressure, temperature &amp; to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Derm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980720" y="320040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9440" indent="-46944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Impact"/>
              </a:rPr>
              <a:t>beneath the Derm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100000"/>
              </a:lnSpc>
              <a:spcBef>
                <a:spcPts val="1001"/>
              </a:spcBef>
              <a:buClr>
                <a:srgbClr val="99cc00"/>
              </a:buClr>
              <a:buSzPct val="80000"/>
              <a:buFont typeface="Wing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Impact"/>
              </a:rPr>
              <a:t>for fat sto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Impact"/>
              </a:rPr>
              <a:t>acts as insulator of 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Impact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981080" y="1523880"/>
            <a:ext cx="518184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Subcutaneous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01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Importance of Homeostasis in 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895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metabolic reactions are controlled by enzy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Impact"/>
              </a:rPr>
              <a:t>enzymes work best in a narrow range of temperature &amp; pH on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Impact"/>
                <a:ea typeface="MS Hei"/>
              </a:rPr>
              <a:t>∴</a:t>
            </a:r>
            <a:r>
              <a:rPr b="0" lang="en-US" sz="3600" spc="-1" strike="noStrike">
                <a:solidFill>
                  <a:srgbClr val="669900"/>
                </a:solidFill>
                <a:latin typeface="Impact"/>
                <a:ea typeface="MS Hei"/>
              </a:rPr>
              <a:t>important to keep internal environment as steady as 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6858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85800"/>
              <a:gd name="textAreaBottom" fmla="*/ 661320 h 685800"/>
            </a:gdLst>
            <a:ahLst/>
            <a:rect l="textAreaLeft" t="textAreaTop" r="textAreaRight" b="textAreaBottom"/>
            <a:pathLst>
              <a:path w="21600" h="38876">
                <a:moveTo>
                  <a:pt x="0" y="0"/>
                </a:moveTo>
                <a:lnTo>
                  <a:pt x="21600" y="0"/>
                </a:lnTo>
                <a:lnTo>
                  <a:pt x="21600" y="38876"/>
                </a:lnTo>
                <a:lnTo>
                  <a:pt x="0" y="38876"/>
                </a:lnTo>
                <a:close/>
              </a:path>
              <a:path fill="lightenLess" w="21600" h="388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76">
                <a:moveTo>
                  <a:pt x="21600" y="0"/>
                </a:moveTo>
                <a:lnTo>
                  <a:pt x="21600" y="38876"/>
                </a:lnTo>
                <a:lnTo>
                  <a:pt x="20200" y="37476"/>
                </a:lnTo>
                <a:lnTo>
                  <a:pt x="20200" y="1400"/>
                </a:lnTo>
                <a:close/>
              </a:path>
              <a:path fill="darkenLess" w="21600" h="38876">
                <a:moveTo>
                  <a:pt x="21600" y="38876"/>
                </a:moveTo>
                <a:lnTo>
                  <a:pt x="0" y="38876"/>
                </a:lnTo>
                <a:lnTo>
                  <a:pt x="1400" y="37476"/>
                </a:lnTo>
                <a:lnTo>
                  <a:pt x="20200" y="37476"/>
                </a:lnTo>
                <a:close/>
              </a:path>
              <a:path fill="lighten" w="21600" h="38876">
                <a:moveTo>
                  <a:pt x="0" y="38876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7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5120" y="16002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Functions of Our Sk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Impact"/>
              </a:rPr>
              <a:t>protect the body (epider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9376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to provide mechanical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937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to prevent bacterial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9376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Impact"/>
              </a:rPr>
              <a:t>to reduce wate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Impact"/>
              </a:rPr>
              <a:t>temperature regulation (ha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512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Functions of Our Sk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42640" y="27428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excretion of sweat (sweat gl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store fats (subcutaneous f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Impact"/>
              </a:rPr>
              <a:t>sensation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(numerous receptor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Impact"/>
              </a:rPr>
              <a:t>production of vitamin D under ultra-violet light (inner epider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90720" y="16765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cc"/>
                </a:solidFill>
                <a:latin typeface="Impact"/>
              </a:rPr>
              <a:t>Control Body Temperature in Hot Condi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a50021"/>
                </a:solidFill>
                <a:latin typeface="Impact"/>
              </a:rPr>
              <a:t>More sweat is produced by sweat 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9900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ff"/>
                </a:solidFill>
                <a:latin typeface="Impact"/>
              </a:rPr>
              <a:t>evaporation of sweat takes away heat which produces a cooling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a50021"/>
                </a:solidFill>
                <a:latin typeface="Impact"/>
              </a:rPr>
              <a:t>Vasodilation of skin arteri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Impact"/>
              </a:rPr>
              <a:t>arterioles near the surface of the skin di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Impact"/>
              </a:rPr>
              <a:t>to let more blood flows near the skin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Impact"/>
              </a:rPr>
              <a:t>to have more heat lost by conduction &amp; rad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Erector muscles relax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850"/>
              </a:spcBef>
              <a:buClr>
                <a:srgbClr val="6600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cc"/>
                </a:solidFill>
                <a:latin typeface="Impact"/>
              </a:rPr>
              <a:t>hairs lie flat on the sk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850"/>
              </a:spcBef>
              <a:buClr>
                <a:srgbClr val="6600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cc"/>
                </a:solidFill>
                <a:latin typeface="Impact"/>
              </a:rPr>
              <a:t>reduce thickness of air trapped among the hairs (not effective in human because human’s hairs are short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9160" indent="-47916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Develop thinner subcutaneous fat &amp; shed their fu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75040">
              <a:lnSpc>
                <a:spcPct val="100000"/>
              </a:lnSpc>
              <a:spcBef>
                <a:spcPts val="850"/>
              </a:spcBef>
              <a:buClr>
                <a:srgbClr val="0099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9900"/>
                </a:solidFill>
                <a:latin typeface="Impact"/>
              </a:rPr>
              <a:t>as long term respons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75040">
              <a:lnSpc>
                <a:spcPct val="100000"/>
              </a:lnSpc>
              <a:spcBef>
                <a:spcPts val="850"/>
              </a:spcBef>
              <a:buClr>
                <a:srgbClr val="0099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9900"/>
                </a:solidFill>
                <a:latin typeface="Impact"/>
              </a:rPr>
              <a:t>increase heat lo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79160" indent="-47916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Decrease metabolic rate &amp; muscle contra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75040">
              <a:lnSpc>
                <a:spcPct val="100000"/>
              </a:lnSpc>
              <a:spcBef>
                <a:spcPts val="850"/>
              </a:spcBef>
              <a:buClr>
                <a:srgbClr val="66cc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ccff"/>
                </a:solidFill>
                <a:latin typeface="Impact"/>
              </a:rPr>
              <a:t>gain less heat</a:t>
            </a:r>
            <a:r>
              <a:rPr b="0" lang="en-US" sz="3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66680" y="1600200"/>
            <a:ext cx="7162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cc"/>
                </a:solidFill>
                <a:latin typeface="Impact"/>
              </a:rPr>
              <a:t>Control Body Temperature in Cold Condi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Vasoconstriction of skin arterio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90000"/>
              </a:lnSpc>
              <a:spcBef>
                <a:spcPts val="850"/>
              </a:spcBef>
              <a:buClr>
                <a:srgbClr val="ff00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ff"/>
                </a:solidFill>
                <a:latin typeface="Impact"/>
              </a:rPr>
              <a:t>arterioles near the surface of the skin constri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90000"/>
              </a:lnSpc>
              <a:spcBef>
                <a:spcPts val="850"/>
              </a:spcBef>
              <a:buClr>
                <a:srgbClr val="ff00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ff"/>
                </a:solidFill>
                <a:latin typeface="Impact"/>
              </a:rPr>
              <a:t>to let less blood flows near the skin su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90000"/>
              </a:lnSpc>
              <a:spcBef>
                <a:spcPts val="850"/>
              </a:spcBef>
              <a:buClr>
                <a:srgbClr val="ff00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ff"/>
                </a:solidFill>
                <a:latin typeface="Impact"/>
              </a:rPr>
              <a:t>to have less heat lost by conduction &amp; radi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Erector muscles contra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6666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ff"/>
                </a:solidFill>
                <a:latin typeface="Impact"/>
              </a:rPr>
              <a:t>pull hairs erect for trapping more a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6666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ff"/>
                </a:solidFill>
                <a:latin typeface="Impact"/>
              </a:rPr>
              <a:t>thicker layer of air acts as a good insulator of he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Less sweat is produced by sweat gla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6699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9900"/>
                </a:solidFill>
                <a:latin typeface="Impact"/>
              </a:rPr>
              <a:t>reduce heat loss by evapo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Develop thicker subcutaneous fat &amp; thicker fu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00808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80"/>
                </a:solidFill>
                <a:latin typeface="Impact"/>
              </a:rPr>
              <a:t>as long term respons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00808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80"/>
                </a:solidFill>
                <a:latin typeface="Impact"/>
              </a:rPr>
              <a:t>reduce heat lo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Increase metabolic rate &amp; muscle contra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cccc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cc00"/>
                </a:solidFill>
                <a:latin typeface="Impact"/>
              </a:rPr>
              <a:t>gain more heat</a:t>
            </a:r>
            <a:r>
              <a:rPr b="0" lang="en-US" sz="3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14400" y="1352520"/>
            <a:ext cx="723888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Lucida Sans"/>
              </a:rPr>
              <a:t>Homeostasi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Lucida Sans"/>
              <a:ea typeface="Lucida Sans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505320"/>
            <a:ext cx="7391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008080" indent="-2008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Definition: </a:t>
            </a: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Keeping the internal environment in a </a:t>
            </a:r>
            <a:r>
              <a:rPr b="0" lang="en-US" sz="3600" spc="-1" strike="noStrike" u="sng">
                <a:solidFill>
                  <a:srgbClr val="ff00ff"/>
                </a:solidFill>
                <a:uFillTx/>
                <a:latin typeface="Impact"/>
              </a:rPr>
              <a:t>Steady</a:t>
            </a: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952880"/>
            <a:ext cx="7543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ff"/>
                </a:solidFill>
                <a:latin typeface="Impact"/>
              </a:rPr>
              <a:t>It is controlled by </a:t>
            </a:r>
            <a:r>
              <a:rPr b="0" lang="en-US" sz="3400" spc="-1" strike="noStrike" u="sng">
                <a:solidFill>
                  <a:srgbClr val="9900ff"/>
                </a:solidFill>
                <a:uFillTx/>
                <a:latin typeface="Impact"/>
              </a:rPr>
              <a:t>Negative Feedback Mechanis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Regulation of </a:t>
            </a:r>
            <a:br>
              <a:rPr sz="4400"/>
            </a:b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Blood Glucos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64760" indent="-464760">
              <a:lnSpc>
                <a:spcPct val="100000"/>
              </a:lnSpc>
              <a:spcBef>
                <a:spcPts val="850"/>
              </a:spcBef>
              <a:buClr>
                <a:srgbClr val="ff6600"/>
              </a:buClr>
              <a:buSzPct val="8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6600"/>
                </a:solidFill>
                <a:latin typeface="Impact"/>
              </a:rPr>
              <a:t>controlled by Negative feedback mechanis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8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a50021"/>
                </a:solidFill>
                <a:latin typeface="Impact"/>
              </a:rPr>
              <a:t>controlled by </a:t>
            </a:r>
            <a:r>
              <a:rPr b="0" lang="zh-TW" sz="3400" spc="-1" strike="noStrike" u="sng">
                <a:solidFill>
                  <a:srgbClr val="a50021"/>
                </a:solidFill>
                <a:uFillTx/>
                <a:latin typeface="Impact"/>
              </a:rPr>
              <a:t>insulin</a:t>
            </a:r>
            <a:r>
              <a:rPr b="0" lang="zh-TW" sz="3400" spc="-1" strike="noStrike">
                <a:solidFill>
                  <a:srgbClr val="a50021"/>
                </a:solidFill>
                <a:latin typeface="Impact"/>
              </a:rPr>
              <a:t> secreted from the </a:t>
            </a:r>
            <a:r>
              <a:rPr b="0" lang="zh-TW" sz="3400" spc="-1" strike="noStrike" u="sng">
                <a:solidFill>
                  <a:srgbClr val="a50021"/>
                </a:solidFill>
                <a:uFillTx/>
                <a:latin typeface="Impact"/>
              </a:rPr>
              <a:t>islets of Langerhans</a:t>
            </a:r>
            <a:r>
              <a:rPr b="0" lang="zh-TW" sz="3400" spc="-1" strike="noStrike">
                <a:solidFill>
                  <a:srgbClr val="a50021"/>
                </a:solidFill>
                <a:latin typeface="Impact"/>
              </a:rPr>
              <a:t> in pancre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SzPct val="8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0000"/>
                </a:solidFill>
                <a:latin typeface="Impact"/>
              </a:rPr>
              <a:t>Diabetes</a:t>
            </a:r>
            <a:r>
              <a:rPr b="0" lang="zh-TW" sz="3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zh-TW" sz="3400" spc="-1" strike="noStrike">
                <a:solidFill>
                  <a:srgbClr val="9900ff"/>
                </a:solidFill>
                <a:latin typeface="Impact"/>
              </a:rPr>
              <a:t>- malfunction of pancreas (does not secrete enough insuli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809880" y="4676760"/>
            <a:ext cx="2057400" cy="1800360"/>
            <a:chOff x="3809880" y="4676760"/>
            <a:chExt cx="2057400" cy="1800360"/>
          </a:xfrm>
        </p:grpSpPr>
        <p:sp>
          <p:nvSpPr>
            <p:cNvPr id="278" name=""/>
            <p:cNvSpPr/>
            <p:nvPr/>
          </p:nvSpPr>
          <p:spPr>
            <a:xfrm>
              <a:off x="3809880" y="4724280"/>
              <a:ext cx="2057400" cy="1752840"/>
            </a:xfrm>
            <a:prstGeom prst="flowChartPunchedCard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86200" y="4676760"/>
              <a:ext cx="1981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00"/>
                  </a:solidFill>
                  <a:latin typeface="Impact"/>
                </a:rPr>
                <a:t>Liver converts glycogen to gluco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0" y="3352680"/>
            <a:ext cx="2438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Impact"/>
              </a:rPr>
              <a:t>normal blood glucos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7120" y="162864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Impact"/>
              </a:rPr>
              <a:t>Blood glucose level f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182880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3321600">
            <a:off x="7543080" y="281916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8219600">
            <a:off x="7467480" y="4723920"/>
            <a:ext cx="1066680" cy="304560"/>
          </a:xfrm>
          <a:prstGeom prst="rightArrow">
            <a:avLst>
              <a:gd name="adj1" fmla="val 50000"/>
              <a:gd name="adj2" fmla="val 87559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1981080"/>
            <a:ext cx="1690560" cy="1557000"/>
            <a:chOff x="0" y="1981080"/>
            <a:chExt cx="1690560" cy="1557000"/>
          </a:xfrm>
        </p:grpSpPr>
        <p:sp>
          <p:nvSpPr>
            <p:cNvPr id="286" name=""/>
            <p:cNvSpPr/>
            <p:nvPr/>
          </p:nvSpPr>
          <p:spPr>
            <a:xfrm rot="18733200">
              <a:off x="685440" y="2819160"/>
              <a:ext cx="1067040" cy="304920"/>
            </a:xfrm>
            <a:prstGeom prst="rightArrow">
              <a:avLst>
                <a:gd name="adj1" fmla="val 50000"/>
                <a:gd name="adj2" fmla="val 87485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1981080"/>
              <a:ext cx="1066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Soon after a me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6320" y="4241520"/>
            <a:ext cx="1629360" cy="1868760"/>
            <a:chOff x="76320" y="4241520"/>
            <a:chExt cx="1629360" cy="1868760"/>
          </a:xfrm>
        </p:grpSpPr>
        <p:sp>
          <p:nvSpPr>
            <p:cNvPr id="289" name=""/>
            <p:cNvSpPr/>
            <p:nvPr/>
          </p:nvSpPr>
          <p:spPr>
            <a:xfrm rot="2675400">
              <a:off x="685440" y="45720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320" y="4432320"/>
              <a:ext cx="106668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Impact"/>
                </a:rPr>
                <a:t>Long after a m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77120" y="5334120"/>
            <a:ext cx="243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Impact"/>
              </a:rPr>
              <a:t>Blood glucose level 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81680" y="3429000"/>
            <a:ext cx="2438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Impact"/>
              </a:rPr>
              <a:t>normal blood glucos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6386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1619280"/>
            <a:ext cx="914400" cy="12819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Impact"/>
              </a:rPr>
              <a:t>Too Hig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5181480"/>
            <a:ext cx="914400" cy="825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Impact"/>
              </a:rPr>
              <a:t>Too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362320" y="641520"/>
            <a:ext cx="1523880" cy="1492200"/>
            <a:chOff x="2362320" y="641520"/>
            <a:chExt cx="1523880" cy="1492200"/>
          </a:xfrm>
        </p:grpSpPr>
        <p:sp>
          <p:nvSpPr>
            <p:cNvPr id="297" name=""/>
            <p:cNvSpPr/>
            <p:nvPr/>
          </p:nvSpPr>
          <p:spPr>
            <a:xfrm>
              <a:off x="2590920" y="1752480"/>
              <a:ext cx="1143000" cy="38124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62320" y="641520"/>
              <a:ext cx="1523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Impact"/>
                </a:rPr>
                <a:t>Pancreas secretes insul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209680" y="4313160"/>
            <a:ext cx="1752840" cy="1630440"/>
            <a:chOff x="2209680" y="4313160"/>
            <a:chExt cx="1752840" cy="1630440"/>
          </a:xfrm>
        </p:grpSpPr>
        <p:sp>
          <p:nvSpPr>
            <p:cNvPr id="300" name=""/>
            <p:cNvSpPr/>
            <p:nvPr/>
          </p:nvSpPr>
          <p:spPr>
            <a:xfrm>
              <a:off x="2590920" y="5562720"/>
              <a:ext cx="1143000" cy="38088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09680" y="4313160"/>
              <a:ext cx="1752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00"/>
                  </a:solidFill>
                  <a:latin typeface="Impact"/>
                </a:rPr>
                <a:t>Pancreas secretes less insul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809880" y="1219320"/>
            <a:ext cx="2057400" cy="1800360"/>
            <a:chOff x="3809880" y="1219320"/>
            <a:chExt cx="2057400" cy="1800360"/>
          </a:xfrm>
        </p:grpSpPr>
        <p:sp>
          <p:nvSpPr>
            <p:cNvPr id="303" name=""/>
            <p:cNvSpPr/>
            <p:nvPr/>
          </p:nvSpPr>
          <p:spPr>
            <a:xfrm>
              <a:off x="3809880" y="1219320"/>
              <a:ext cx="2057400" cy="1752480"/>
            </a:xfrm>
            <a:prstGeom prst="flowChartPunchedCard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86200" y="1219320"/>
              <a:ext cx="19051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cc"/>
                  </a:solidFill>
                  <a:latin typeface="Impact"/>
                </a:rPr>
                <a:t> </a:t>
              </a:r>
              <a:r>
                <a:rPr b="0" lang="en-US" sz="2800" spc="-1" strike="noStrike">
                  <a:solidFill>
                    <a:srgbClr val="ff33cc"/>
                  </a:solidFill>
                  <a:latin typeface="Impact"/>
                </a:rPr>
                <a:t>Liver coverts glucose to glyco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8440" y="1828800"/>
            <a:ext cx="9267840" cy="3492360"/>
            <a:chOff x="28440" y="1828800"/>
            <a:chExt cx="9267840" cy="3492360"/>
          </a:xfrm>
        </p:grpSpPr>
        <p:graphicFrame>
          <p:nvGraphicFramePr>
            <p:cNvPr id="309" name=""/>
            <p:cNvGraphicFramePr/>
            <p:nvPr/>
          </p:nvGraphicFramePr>
          <p:xfrm>
            <a:off x="28440" y="1828800"/>
            <a:ext cx="3705480" cy="3492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440" y="1828800"/>
                      <a:ext cx="3705480" cy="34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"/>
            <p:cNvSpPr/>
            <p:nvPr/>
          </p:nvSpPr>
          <p:spPr>
            <a:xfrm>
              <a:off x="3048120" y="2286000"/>
              <a:ext cx="624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0" spc="-1" strike="noStrike">
                  <a:solidFill>
                    <a:srgbClr val="0099cc"/>
                  </a:solidFill>
                  <a:latin typeface="Impact"/>
                </a:rPr>
                <a:t>~</a:t>
              </a:r>
              <a:r>
                <a:rPr b="0" lang="en-GB" sz="6000" spc="-1" strike="noStrike">
                  <a:solidFill>
                    <a:srgbClr val="0099cc"/>
                  </a:solidFill>
                  <a:latin typeface="Impact"/>
                </a:rPr>
                <a:t> </a:t>
              </a:r>
              <a:r>
                <a:rPr b="0" lang="en-GB" sz="12000" spc="-1" strike="noStrike">
                  <a:solidFill>
                    <a:srgbClr val="0099cc"/>
                  </a:solidFill>
                  <a:latin typeface="Impact"/>
                </a:rPr>
                <a:t>END</a:t>
              </a:r>
              <a:r>
                <a:rPr b="0" lang="en-GB" sz="6000" spc="-1" strike="noStrike">
                  <a:solidFill>
                    <a:srgbClr val="0099cc"/>
                  </a:solidFill>
                  <a:latin typeface="Impact"/>
                </a:rPr>
                <a:t> </a:t>
              </a:r>
              <a:r>
                <a:rPr b="0" lang="en-GB" sz="12000" spc="-1" strike="noStrike">
                  <a:solidFill>
                    <a:srgbClr val="0099cc"/>
                  </a:solidFill>
                  <a:latin typeface="Impact"/>
                </a:rPr>
                <a:t>~</a:t>
              </a:r>
              <a:endParaRPr b="0" lang="en-US" sz="1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01.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0200" y="1447920"/>
            <a:ext cx="2362320" cy="10666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Impact"/>
              </a:rPr>
              <a:t>Ris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Impact"/>
              </a:rPr>
              <a:t>norma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257800"/>
            <a:ext cx="2438640" cy="1143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Impact"/>
              </a:rPr>
              <a:t>Fall bel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Impact"/>
              </a:rPr>
              <a:t>norma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52680"/>
            <a:ext cx="1523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Impact"/>
              </a:rPr>
              <a:t>normal 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1523880"/>
            <a:ext cx="2209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mpact"/>
              </a:rPr>
              <a:t>Corrective Mechan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5318280"/>
            <a:ext cx="2209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mpact"/>
              </a:rPr>
              <a:t>Corrective Mechan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676520"/>
            <a:ext cx="914400" cy="5331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5562720"/>
            <a:ext cx="914400" cy="5331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8834000">
            <a:off x="456840" y="259092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3127800">
            <a:off x="380520" y="4876560"/>
            <a:ext cx="1067040" cy="30456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8512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Impact"/>
              </a:rPr>
              <a:t>NEGATIVE FEEDBACK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3429000"/>
            <a:ext cx="1371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Impact"/>
              </a:rPr>
              <a:t>normal 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3321600">
            <a:off x="7010280" y="2743200"/>
            <a:ext cx="1066680" cy="304560"/>
          </a:xfrm>
          <a:prstGeom prst="rightArrow">
            <a:avLst>
              <a:gd name="adj1" fmla="val 50000"/>
              <a:gd name="adj2" fmla="val 87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8219600">
            <a:off x="6934320" y="4800240"/>
            <a:ext cx="1066680" cy="304920"/>
          </a:xfrm>
          <a:prstGeom prst="rightArrow">
            <a:avLst>
              <a:gd name="adj1" fmla="val 50000"/>
              <a:gd name="adj2" fmla="val 87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1981080"/>
            <a:ext cx="1523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Impact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4905360"/>
            <a:ext cx="1524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Impact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01.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5960" y="14475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Impact"/>
              </a:rPr>
              <a:t>kidneys</a:t>
            </a:r>
            <a:r>
              <a:rPr b="0" lang="zh-TW" sz="3200" spc="-1" strike="noStrike">
                <a:solidFill>
                  <a:srgbClr val="000000"/>
                </a:solidFill>
                <a:latin typeface="Impact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032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cc00"/>
                </a:solidFill>
                <a:latin typeface="Impact"/>
              </a:rPr>
              <a:t>regulate water &amp;   mineral salts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Impact"/>
              </a:rPr>
              <a:t>skin</a:t>
            </a:r>
            <a:r>
              <a:rPr b="0" lang="zh-TW" sz="3200" spc="-1" strike="noStrike">
                <a:solidFill>
                  <a:srgbClr val="000000"/>
                </a:solidFill>
                <a:latin typeface="Impact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03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Impact"/>
              </a:rPr>
              <a:t>regulate body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Impact"/>
              </a:rPr>
              <a:t>liver</a:t>
            </a:r>
            <a:r>
              <a:rPr b="0" lang="zh-TW" sz="3200" spc="-1" strike="noStrike">
                <a:solidFill>
                  <a:srgbClr val="000000"/>
                </a:solidFill>
                <a:latin typeface="Impact"/>
              </a:rPr>
              <a:t> &amp; </a:t>
            </a:r>
            <a:r>
              <a:rPr b="0" lang="zh-TW" sz="3200" spc="-1" strike="noStrike">
                <a:solidFill>
                  <a:srgbClr val="3333cc"/>
                </a:solidFill>
                <a:latin typeface="Impact"/>
              </a:rPr>
              <a:t>pancreas</a:t>
            </a:r>
            <a:r>
              <a:rPr b="0" lang="zh-TW" sz="3200" spc="-1" strike="noStrike">
                <a:solidFill>
                  <a:srgbClr val="000000"/>
                </a:solidFill>
                <a:latin typeface="Impact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032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00"/>
                </a:solidFill>
                <a:latin typeface="Impact"/>
              </a:rPr>
              <a:t>regulate blood glucos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Parts of Body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16.1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133880" cy="40194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807732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54100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panc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933960" y="2378160"/>
            <a:ext cx="1676160" cy="1279440"/>
            <a:chOff x="6933960" y="2378160"/>
            <a:chExt cx="1676160" cy="1279440"/>
          </a:xfrm>
        </p:grpSpPr>
        <p:sp>
          <p:nvSpPr>
            <p:cNvPr id="80" name=""/>
            <p:cNvSpPr/>
            <p:nvPr/>
          </p:nvSpPr>
          <p:spPr>
            <a:xfrm>
              <a:off x="7238880" y="2378160"/>
              <a:ext cx="137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tissue cel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933960" y="2819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390800" y="2819520"/>
              <a:ext cx="152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324480" y="4343400"/>
            <a:ext cx="1371600" cy="612000"/>
            <a:chOff x="6324480" y="4343400"/>
            <a:chExt cx="1371600" cy="612000"/>
          </a:xfrm>
        </p:grpSpPr>
        <p:sp>
          <p:nvSpPr>
            <p:cNvPr id="84" name=""/>
            <p:cNvSpPr/>
            <p:nvPr/>
          </p:nvSpPr>
          <p:spPr>
            <a:xfrm>
              <a:off x="7010280" y="434340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495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b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3" name="01.1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cc"/>
                </a:solidFill>
                <a:latin typeface="Impact"/>
              </a:rPr>
              <a:t>Osmoregulation </a:t>
            </a:r>
            <a:br>
              <a:rPr sz="4400"/>
            </a:br>
            <a:r>
              <a:rPr b="0" lang="zh-TW" sz="4400" spc="-1" strike="noStrike">
                <a:solidFill>
                  <a:srgbClr val="0099cc"/>
                </a:solidFill>
                <a:latin typeface="Impact"/>
              </a:rPr>
              <a:t>(Water &amp; Mineral sal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28954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Impact"/>
              </a:rPr>
              <a:t>Regulate water potential in Tissue Fl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Organ involved: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Impact"/>
              </a:rPr>
              <a:t>KIDNE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52280" y="3048120"/>
            <a:ext cx="3048120" cy="1295280"/>
            <a:chOff x="152280" y="3048120"/>
            <a:chExt cx="3048120" cy="1295280"/>
          </a:xfrm>
        </p:grpSpPr>
        <p:sp>
          <p:nvSpPr>
            <p:cNvPr id="95" name=""/>
            <p:cNvSpPr/>
            <p:nvPr/>
          </p:nvSpPr>
          <p:spPr>
            <a:xfrm>
              <a:off x="152280" y="3048120"/>
              <a:ext cx="3048120" cy="1295280"/>
            </a:xfrm>
            <a:prstGeom prst="flowChartPunchedTap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280" y="3244680"/>
              <a:ext cx="304812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Impact"/>
                </a:rPr>
                <a:t>Normal Water Content in Bl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200400" y="1066680"/>
            <a:ext cx="28954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Impact"/>
              </a:rPr>
              <a:t>After Swea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14600"/>
            <a:ext cx="2514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Impact"/>
              </a:rPr>
              <a:t>Concentrated Bl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4572000"/>
            <a:ext cx="251460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Impact"/>
              </a:rPr>
              <a:t>Larger proportion of water is reabsorb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8811800">
            <a:off x="1562040" y="186660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3588200">
            <a:off x="1714320" y="491436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172200" y="2819520"/>
            <a:ext cx="2819520" cy="1373760"/>
            <a:chOff x="6172200" y="2819520"/>
            <a:chExt cx="2819520" cy="1373760"/>
          </a:xfrm>
        </p:grpSpPr>
        <p:sp>
          <p:nvSpPr>
            <p:cNvPr id="103" name=""/>
            <p:cNvSpPr/>
            <p:nvPr/>
          </p:nvSpPr>
          <p:spPr>
            <a:xfrm>
              <a:off x="6172200" y="2819520"/>
              <a:ext cx="2819520" cy="1371600"/>
            </a:xfrm>
            <a:prstGeom prst="flowChartPredefined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2819520"/>
              <a:ext cx="2438280" cy="1373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Impact"/>
                </a:rPr>
                <a:t>Concentrated Urine is produc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rot="18811800">
            <a:off x="5905440" y="491472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374200">
            <a:off x="4150080" y="3845520"/>
            <a:ext cx="993600" cy="306360"/>
          </a:xfrm>
          <a:custGeom>
            <a:avLst/>
            <a:gdLst>
              <a:gd name="textAreaLeft" fmla="*/ 155160 w 993600"/>
              <a:gd name="textAreaRight" fmla="*/ 869400 w 993600"/>
              <a:gd name="textAreaTop" fmla="*/ 76320 h 306360"/>
              <a:gd name="textAreaBottom" fmla="*/ 230040 h 30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374200">
            <a:off x="4151520" y="1943640"/>
            <a:ext cx="993600" cy="306360"/>
          </a:xfrm>
          <a:custGeom>
            <a:avLst/>
            <a:gdLst>
              <a:gd name="textAreaLeft" fmla="*/ 155160 w 993600"/>
              <a:gd name="textAreaRight" fmla="*/ 869400 w 993600"/>
              <a:gd name="textAreaTop" fmla="*/ 76320 h 306360"/>
              <a:gd name="textAreaBottom" fmla="*/ 230040 h 30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280" y="3048120"/>
            <a:ext cx="3048120" cy="1295280"/>
            <a:chOff x="152280" y="3048120"/>
            <a:chExt cx="3048120" cy="1295280"/>
          </a:xfrm>
        </p:grpSpPr>
        <p:sp>
          <p:nvSpPr>
            <p:cNvPr id="112" name=""/>
            <p:cNvSpPr/>
            <p:nvPr/>
          </p:nvSpPr>
          <p:spPr>
            <a:xfrm>
              <a:off x="152280" y="3048120"/>
              <a:ext cx="3048120" cy="1295280"/>
            </a:xfrm>
            <a:prstGeom prst="flowChartPunchedTap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3244680"/>
              <a:ext cx="304812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Impact"/>
                </a:rPr>
                <a:t>Normal Water Content in Bl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00400" y="1066680"/>
            <a:ext cx="28954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Impact"/>
              </a:rPr>
              <a:t>After Drin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819520"/>
            <a:ext cx="2514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Impact"/>
              </a:rPr>
              <a:t>Diluted Bl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4495680"/>
            <a:ext cx="266724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Impact"/>
              </a:rPr>
              <a:t>Smaller proportion of water is reabsorb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811800">
            <a:off x="1562040" y="186660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3588200">
            <a:off x="1714320" y="491436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172200" y="2819520"/>
            <a:ext cx="2819520" cy="1602360"/>
            <a:chOff x="6172200" y="2819520"/>
            <a:chExt cx="2819520" cy="1602360"/>
          </a:xfrm>
        </p:grpSpPr>
        <p:sp>
          <p:nvSpPr>
            <p:cNvPr id="120" name=""/>
            <p:cNvSpPr/>
            <p:nvPr/>
          </p:nvSpPr>
          <p:spPr>
            <a:xfrm>
              <a:off x="6172200" y="2819520"/>
              <a:ext cx="2819520" cy="1371600"/>
            </a:xfrm>
            <a:prstGeom prst="flowChartPredefined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7120" y="3048120"/>
              <a:ext cx="2209680" cy="1373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Impact"/>
                </a:rPr>
                <a:t>Diluted Urine   is produc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18811800">
            <a:off x="5905440" y="491472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374200">
            <a:off x="4150080" y="3772440"/>
            <a:ext cx="993600" cy="306360"/>
          </a:xfrm>
          <a:custGeom>
            <a:avLst/>
            <a:gdLst>
              <a:gd name="textAreaLeft" fmla="*/ 155160 w 993600"/>
              <a:gd name="textAreaRight" fmla="*/ 869400 w 993600"/>
              <a:gd name="textAreaTop" fmla="*/ 76320 h 306360"/>
              <a:gd name="textAreaBottom" fmla="*/ 230040 h 30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374200">
            <a:off x="4151520" y="2016720"/>
            <a:ext cx="993600" cy="306360"/>
          </a:xfrm>
          <a:custGeom>
            <a:avLst/>
            <a:gdLst>
              <a:gd name="textAreaLeft" fmla="*/ 155160 w 993600"/>
              <a:gd name="textAreaRight" fmla="*/ 869400 w 993600"/>
              <a:gd name="textAreaTop" fmla="*/ 76320 h 306360"/>
              <a:gd name="textAreaBottom" fmla="*/ 230040 h 30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61048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cc"/>
                </a:solidFill>
                <a:latin typeface="Impact"/>
              </a:rPr>
              <a:t>Osmoregulation </a:t>
            </a:r>
            <a:br>
              <a:rPr sz="4400"/>
            </a:br>
            <a:r>
              <a:rPr b="0" lang="zh-TW" sz="4400" spc="-1" strike="noStrike">
                <a:solidFill>
                  <a:srgbClr val="0099cc"/>
                </a:solidFill>
                <a:latin typeface="Impact"/>
              </a:rPr>
              <a:t>(Water &amp; Mineral sal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After having a very salty m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mpact"/>
              </a:rPr>
              <a:t>produce concentrated urine to remove excess salts in solution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extra water is needed to be excreted along with the excess 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Impact"/>
              </a:rPr>
              <a:t>sensation of thirst (drink more water to compensate for the water lo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8T08:38:29Z</dcterms:created>
  <dc:creator>Terry</dc:creator>
  <dc:description/>
  <dc:language>en-US</dc:language>
  <cp:lastModifiedBy>tyh</cp:lastModifiedBy>
  <dcterms:modified xsi:type="dcterms:W3CDTF">2001-11-12T02:06:05Z</dcterms:modified>
  <cp:revision>52</cp:revision>
  <dc:subject/>
  <dc:title>Homeostasis</dc:title>
</cp:coreProperties>
</file>